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1DA-CA04-4514-8DEE-AEADC767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ED4-4637-47F0-9594-3D69F072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B54-7823-4E6B-926C-2B3FF4AE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0B8-255F-4C19-9338-9C6DCA39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8783-BF7E-4D40-B553-9056205F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F3BE-D6F7-4E74-896B-BAEC1875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3FAE-FFD9-40D7-8FAD-5C42D2CA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7838-5191-4017-BBDB-C9E0AB56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B8E0-FD62-43CE-A742-43C1D94C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281F-60EA-4D98-BA6C-DE707E59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D040-BAA3-4901-B8E2-A2D6EF02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266-3088-49E8-BCA0-3CB8CD20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48F1-0D8E-4799-9236-914AB8D0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4EB0-55DF-41F5-8A26-B2B37BC1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CAB9-7CA3-4888-BB3B-336753BA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DF55-E070-4DDA-B52F-9911D777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0EDD-8520-4942-AA86-6B2C7460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BE0-4744-4131-9078-029858D7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3DC-F194-4071-8B33-56A9A839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C4DD-C3A4-496A-8DB6-0557C14E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3250-783C-4ED3-B73F-CC5C6EB7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8C2-83CB-4653-8679-8C5FE6BD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528-C5AA-4755-A3E8-43AA320D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E62-2F6C-4D4A-AD13-A34DED1C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39BB-053B-414C-91AA-6003A4811F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8A56-4414-45BF-B47F-B6E2E3F7D9A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굴림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The Washington Naval Conference</a:t>
            </a:r>
            <a:endParaRPr b="1" lang="en-US" sz="36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By: Scott Rhee</a:t>
            </a:r>
            <a:endParaRPr b="0" lang="en-US" sz="28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Basic Info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November 1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굴림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1921 to February 6</a:t>
            </a:r>
            <a:r>
              <a:rPr b="0" lang="en-US" sz="2800" spc="-1" strike="noStrike" baseline="30000">
                <a:solidFill>
                  <a:srgbClr val="003366"/>
                </a:solidFill>
                <a:latin typeface="굴림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1922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Nine nations interested in Pacific area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oviet Union was not included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Results : Three major treaties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Effects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Rise of the Japanese Empire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Built new battleships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Ratio of 5:5:3 on the warship tonnage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US, France, Britain, and Japan had to consult before consulting a future crisis in East Asia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Japan Effects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Treaty with China to halt the expansion into China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Agreed to leave Siberia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Agreed to America and Japan having equal access to radio and cable facilities in the Island of Yap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7:12:10Z</dcterms:created>
  <dc:creator>SEC</dc:creator>
  <dc:description/>
  <dc:language>en-US</dc:language>
  <cp:lastModifiedBy>SEC</cp:lastModifiedBy>
  <dcterms:modified xsi:type="dcterms:W3CDTF">2008-10-19T17:23:36Z</dcterms:modified>
  <cp:revision>2</cp:revision>
  <dc:subject/>
  <dc:title>The Washington Naval Conference</dc:title>
</cp:coreProperties>
</file>